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where communication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arning community works through the synergy of shar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how you “know the lear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can’t respond without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6374-5A88-4C64-A478-E15DA56C7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031D-4F2E-4C54-9025-3FD4DB2FB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2A37-8B3E-4C94-829B-CFED58480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F727-5E1B-4412-8B2D-C1145999F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D254-8C66-460D-AF51-265976EBD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7994-54A2-48E8-8618-19AC82F0D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4642-C7A7-4F4C-8A4B-74BDC78E1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C9DC-F9FF-4C99-B766-C16AEFF84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2700-EB62-453B-8206-48D444FFC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15E5-57E8-4386-A753-D31117CD3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8C7C-A97C-43EF-B5DD-40AE4338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C212-A44C-4D83-9D72-01F4FF1AE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8467-6614-4EB9-930C-DCA0300E75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perativelearning.nuvvo.com/lesson/9592-seinfeld-teaches-history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5EE3-9C1A-479A-9A34-4199F3B7F9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To understand how work with fractions supports 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To practice interpretive listening and responding as 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FDFB-34F5-45D9-9594-C7F192745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Mat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ght integration of number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2 ½ is 2 plus ½, it is also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3/5 is 3 divided by 5, it is also 3 times 1/5, 0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952-D14B-4B47-A740-55729D0622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4 “units” gives 11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/3 + 4/3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x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BF9A-B207-4326-8016-5575E8C46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3ACD-43AF-4D4B-8599-BDA6CAEB5A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3657600" cy="409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724280" y="2536920"/>
            <a:ext cx="2543400" cy="598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685800" y="4641840"/>
            <a:ext cx="3200400" cy="752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9" name="TextBox 4"/>
          <p:cNvSpPr/>
          <p:nvPr/>
        </p:nvSpPr>
        <p:spPr>
          <a:xfrm>
            <a:off x="624852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** ad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060-0597-4844-A2BA-4E8CB87EB8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7EF-BDD8-4F4E-A234-DA946FC3D7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Content Placeholder 4"/>
              <p:cNvSpPr txBox="1"/>
              <p:nvPr/>
            </p:nvSpPr>
            <p:spPr>
              <a:xfrm>
                <a:off x="1154160" y="156384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Group 57"/>
          <p:cNvGrpSpPr/>
          <p:nvPr/>
        </p:nvGrpSpPr>
        <p:grpSpPr>
          <a:xfrm>
            <a:off x="4343400" y="1790640"/>
            <a:ext cx="4361040" cy="1411200"/>
            <a:chOff x="4343400" y="1790640"/>
            <a:chExt cx="4361040" cy="1411200"/>
          </a:xfrm>
        </p:grpSpPr>
        <p:grpSp>
          <p:nvGrpSpPr>
            <p:cNvPr id="109" name="Group 12"/>
            <p:cNvGrpSpPr/>
            <p:nvPr/>
          </p:nvGrpSpPr>
          <p:grpSpPr>
            <a:xfrm>
              <a:off x="4343400" y="1790640"/>
              <a:ext cx="4346640" cy="230400"/>
              <a:chOff x="4343400" y="1790640"/>
              <a:chExt cx="4346640" cy="230400"/>
            </a:xfrm>
          </p:grpSpPr>
          <p:sp>
            <p:nvSpPr>
              <p:cNvPr id="110" name="Rectangle 8"/>
              <p:cNvSpPr/>
              <p:nvPr/>
            </p:nvSpPr>
            <p:spPr>
              <a:xfrm>
                <a:off x="4343400" y="17906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5794560" y="17906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7242480" y="1792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8225640" y="17924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3"/>
            <p:cNvGrpSpPr/>
            <p:nvPr/>
          </p:nvGrpSpPr>
          <p:grpSpPr>
            <a:xfrm>
              <a:off x="4345200" y="2030040"/>
              <a:ext cx="4346640" cy="230400"/>
              <a:chOff x="4345200" y="2030040"/>
              <a:chExt cx="4346640" cy="230400"/>
            </a:xfrm>
          </p:grpSpPr>
          <p:sp>
            <p:nvSpPr>
              <p:cNvPr id="115" name="Rectangle 14"/>
              <p:cNvSpPr/>
              <p:nvPr/>
            </p:nvSpPr>
            <p:spPr>
              <a:xfrm>
                <a:off x="4345200" y="2030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5796360" y="2030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7244280" y="2031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8227440" y="2031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8"/>
            <p:cNvGrpSpPr/>
            <p:nvPr/>
          </p:nvGrpSpPr>
          <p:grpSpPr>
            <a:xfrm>
              <a:off x="4350600" y="2255040"/>
              <a:ext cx="4346640" cy="230400"/>
              <a:chOff x="4350600" y="2255040"/>
              <a:chExt cx="4346640" cy="230400"/>
            </a:xfrm>
          </p:grpSpPr>
          <p:sp>
            <p:nvSpPr>
              <p:cNvPr id="120" name="Rectangle 19"/>
              <p:cNvSpPr/>
              <p:nvPr/>
            </p:nvSpPr>
            <p:spPr>
              <a:xfrm>
                <a:off x="4350600" y="2255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5801760" y="2255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7249680" y="2256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8232840" y="2256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3"/>
            <p:cNvGrpSpPr/>
            <p:nvPr/>
          </p:nvGrpSpPr>
          <p:grpSpPr>
            <a:xfrm>
              <a:off x="4350600" y="2507040"/>
              <a:ext cx="4346640" cy="230400"/>
              <a:chOff x="4350600" y="2507040"/>
              <a:chExt cx="4346640" cy="230400"/>
            </a:xfrm>
          </p:grpSpPr>
          <p:sp>
            <p:nvSpPr>
              <p:cNvPr id="125" name="Rectangle 24"/>
              <p:cNvSpPr/>
              <p:nvPr/>
            </p:nvSpPr>
            <p:spPr>
              <a:xfrm>
                <a:off x="4350600" y="2507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5801760" y="2507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7249680" y="2508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8232840" y="2508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8"/>
            <p:cNvGrpSpPr/>
            <p:nvPr/>
          </p:nvGrpSpPr>
          <p:grpSpPr>
            <a:xfrm>
              <a:off x="4352400" y="2746440"/>
              <a:ext cx="4346640" cy="230400"/>
              <a:chOff x="4352400" y="2746440"/>
              <a:chExt cx="4346640" cy="230400"/>
            </a:xfrm>
          </p:grpSpPr>
          <p:sp>
            <p:nvSpPr>
              <p:cNvPr id="130" name="Rectangle 29"/>
              <p:cNvSpPr/>
              <p:nvPr/>
            </p:nvSpPr>
            <p:spPr>
              <a:xfrm>
                <a:off x="4352400" y="2746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5803560" y="2746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7251480" y="27482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8234640" y="27482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3"/>
            <p:cNvGrpSpPr/>
            <p:nvPr/>
          </p:nvGrpSpPr>
          <p:grpSpPr>
            <a:xfrm>
              <a:off x="4357800" y="2971440"/>
              <a:ext cx="4346640" cy="230400"/>
              <a:chOff x="4357800" y="2971440"/>
              <a:chExt cx="4346640" cy="230400"/>
            </a:xfrm>
          </p:grpSpPr>
          <p:sp>
            <p:nvSpPr>
              <p:cNvPr id="135" name="Rectangle 34"/>
              <p:cNvSpPr/>
              <p:nvPr/>
            </p:nvSpPr>
            <p:spPr>
              <a:xfrm>
                <a:off x="4357800" y="2971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5808960" y="2971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7256880" y="29732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8240040" y="29732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Cloud Callout 43"/>
          <p:cNvSpPr/>
          <p:nvPr/>
        </p:nvSpPr>
        <p:spPr>
          <a:xfrm>
            <a:off x="2666880" y="3176640"/>
            <a:ext cx="2286000" cy="1477800"/>
          </a:xfrm>
          <a:prstGeom prst="cloudCallout">
            <a:avLst>
              <a:gd name="adj1" fmla="val 61453"/>
              <a:gd name="adj2" fmla="val -42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44"/>
          <p:cNvSpPr/>
          <p:nvPr/>
        </p:nvSpPr>
        <p:spPr>
          <a:xfrm>
            <a:off x="6097680" y="3733920"/>
            <a:ext cx="2386080" cy="1218960"/>
          </a:xfrm>
          <a:prstGeom prst="cloudCallout">
            <a:avLst>
              <a:gd name="adj1" fmla="val 26379"/>
              <a:gd name="adj2" fmla="val -88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7"/>
          <p:cNvGrpSpPr/>
          <p:nvPr/>
        </p:nvGrpSpPr>
        <p:grpSpPr>
          <a:xfrm>
            <a:off x="4352760" y="1600200"/>
            <a:ext cx="2903760" cy="1828800"/>
            <a:chOff x="4352760" y="1600200"/>
            <a:chExt cx="2903760" cy="1828800"/>
          </a:xfrm>
        </p:grpSpPr>
        <p:sp>
          <p:nvSpPr>
            <p:cNvPr id="142" name="Oval 45"/>
            <p:cNvSpPr/>
            <p:nvPr/>
          </p:nvSpPr>
          <p:spPr>
            <a:xfrm>
              <a:off x="4352760" y="1600200"/>
              <a:ext cx="2903760" cy="18288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6"/>
            <p:cNvSpPr/>
            <p:nvPr/>
          </p:nvSpPr>
          <p:spPr>
            <a:xfrm>
              <a:off x="5199840" y="188172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1"/>
          <p:cNvGrpSpPr/>
          <p:nvPr/>
        </p:nvGrpSpPr>
        <p:grpSpPr>
          <a:xfrm>
            <a:off x="7203960" y="1474920"/>
            <a:ext cx="1371600" cy="1828800"/>
            <a:chOff x="7203960" y="1474920"/>
            <a:chExt cx="1371600" cy="1828800"/>
          </a:xfrm>
        </p:grpSpPr>
        <p:sp>
          <p:nvSpPr>
            <p:cNvPr id="145" name="Oval 49"/>
            <p:cNvSpPr/>
            <p:nvPr/>
          </p:nvSpPr>
          <p:spPr>
            <a:xfrm>
              <a:off x="7203960" y="1474920"/>
              <a:ext cx="1219320" cy="18288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0"/>
            <p:cNvSpPr/>
            <p:nvPr/>
          </p:nvSpPr>
          <p:spPr>
            <a:xfrm>
              <a:off x="7356240" y="178596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7F10-583F-46E3-943E-2C5F09C189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52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nex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ers go away to “prep”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923-D7F5-4778-BFEC-D996F50D10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come up with a set of question “stems” that you will use as students during the 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176-85A7-4753-BF60-786DCC3CE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through the questions as a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Listening and Questioning to build on each other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thinking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282-FAE7-4A96-ABF9-E25982641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BEB-8975-4FA6-86B6-8A7CDD5AE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consolidation or 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DCA-2118-4885-884A-BEC2F2912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it feel being a teacher /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1D6-51C7-437F-ACCD-80EADB92B1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900-25AB-471B-943D-87FA51DCAA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ing : Why?  How?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 concepts and the 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s and algebra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3AF-FA5C-437E-9D11-C7FBDA6C0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3F07-1155-4BBF-9597-DD1895E69C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Sienfeld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1F95-87B7-4A3A-8C41-D54E467171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d the Research Synop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 light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iew the Ac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C76-1339-472C-923F-23650D360B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Listening in a Learning Communit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E4C-CF4A-4A48-9AA2-4D369F8358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E13E-F7AF-49A4-9152-5FAFD52D6A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Canvas 1"/>
          <p:cNvGrpSpPr/>
          <p:nvPr/>
        </p:nvGrpSpPr>
        <p:grpSpPr>
          <a:xfrm>
            <a:off x="3105000" y="2170080"/>
            <a:ext cx="5486400" cy="3200400"/>
            <a:chOff x="3105000" y="2170080"/>
            <a:chExt cx="5486400" cy="3200400"/>
          </a:xfrm>
        </p:grpSpPr>
        <p:sp>
          <p:nvSpPr>
            <p:cNvPr id="75" name="Rectangle 16"/>
            <p:cNvSpPr/>
            <p:nvPr/>
          </p:nvSpPr>
          <p:spPr>
            <a:xfrm>
              <a:off x="3105000" y="21700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3390480" y="242712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8"/>
            <p:cNvSpPr/>
            <p:nvPr/>
          </p:nvSpPr>
          <p:spPr>
            <a:xfrm>
              <a:off x="5952960" y="242712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19"/>
            <p:cNvSpPr/>
            <p:nvPr/>
          </p:nvSpPr>
          <p:spPr>
            <a:xfrm>
              <a:off x="3390480" y="386568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0"/>
            <p:cNvSpPr/>
            <p:nvPr/>
          </p:nvSpPr>
          <p:spPr>
            <a:xfrm>
              <a:off x="5362560" y="3379680"/>
              <a:ext cx="112392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5314680" y="35607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3390480" y="242712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7285680" y="242712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390480" y="386568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7124760" y="3865680"/>
              <a:ext cx="139068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9T01:29:07Z</dcterms:modified>
  <cp:revision>45</cp:revision>
  <dc:subject/>
  <dc:title>&lt;Title&gt;</dc:title>
</cp:coreProperties>
</file>